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93A2C-86F5-4B5E-814D-86AEBB3D640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Экология </a:t>
            </a:r>
            <a:r>
              <a:rPr b="0" lang="en-US" sz="1200" spc="-1" strike="noStrike">
                <a:solidFill>
                  <a:srgbClr val="0000ff"/>
                </a:solidFill>
                <a:latin typeface="Comic Sans MS"/>
              </a:rPr>
              <a:t>P</a:t>
            </a: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ядом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BD5EA-9461-439F-8EF0-870A19E56C3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Главные проблемы челове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Исчерпывание запасов пресной 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7F7C8-F932-4FF4-8130-6AF8B0409B5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Главные проблемы челове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Исчерпывание запасов полезных ископаем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B5FFA-3D36-4B14-BE21-5CFDE00C120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Главные проблемы челове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Ухудшение состояния почвы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Да и многие другие проблемы, связанные с халатностью человека по отношению к природным ресурс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E1DAE-9656-41CD-9420-6C3DFBAD207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Решение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Для решения этих глобальных проблем и прежде всего проблемы интенсификации и рационального использования, сохранения и воспроизводства ресурсов биосферы, экология объединяет в научном поиске усилия ботаников, зоологов и микробиологов, придает эволюционному учению, генетике, биохимии и биофизике их истинную универсаль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Но и не только их! И мы можем внести свой вклад в отношении спасения Земли от неминуемой гибел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1B3FF-6199-45DD-A075-D8FD05E1D10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Страница гиперссыл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Источники информации во всемирной паутин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50586-3AC4-4A4B-BFC8-906095B42C5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Вступ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Эколо́гия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(от греч. οικος — дом, жилище, родина и λόγος — учение, наука) — наука, изучающая взаимоотношения живой и неживой природ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Но порой мы с вами и сами не задумываемся о самом факте значения существования этой науки, не замечая или просто забывая продолжаем с каждым днём всё больше и больше загрязнять атмосферу Нашей планеты, губить её флору и фауну, совершать непоправимые ошиб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Данная презентация как раз поможет Вам ещё раз вспомнить, что же значит для нас это простая, с виду, наука «Экология» и что живой и неживой миры взаимосвязаны друг с другом намного больше, чем мы предполага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E0D83-6819-4B5D-9E8F-05962A1AEC1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Содерж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010A6-4E96-4879-B42F-D695C677D8E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Опред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Современное значение слова экология имеет более широкое значение, чем в первые десятилетия развития этой науки. Предлагаю рассмотреть и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1, Экология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— познание экономики природы, одновременное исследование всех взаимоотношений живого с органическими и неорганическими компонентами сре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2,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Экология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— это наука, изучающая все сложные взаимосвязи в природе, рассматриваемые Дарвином как условия борьбы за существ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3, Экология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- биологическая наука, которая исследует структуру и функционирование систем надорганизменного уровня в пространстве и времени в естественных и измененных человеком услов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516FC-6A87-4A57-BC7F-38856F369E1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Связи экологии с другими наук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Экология обычно рассматривается как подотрасль биологии, общей науки о живых организм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Но экология также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связана со многими другими науками именно потому, что она изучает организацию живых организмов на очень высоком уровне, исследует связи между организмами и их средой обит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0B8BE-7935-4E25-9262-A583595F8C9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Экологические фак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Экологические факторы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– это элементы окружающей среды, которые вызывают у живых организмов и их сообществ приспособительные реакции (адаптаци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1, температур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2, влажност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3, ветер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4, наличие пищ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5, хищник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6, паразит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7, конкуренты и т. 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38162-0B12-41C1-869C-4FA7CB0CB61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Главная задача эк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Главная же теоретическая и практическая задача экологии — </a:t>
            </a: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раскрыть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общие </a:t>
            </a: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закономерности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организации жизни и на этой основе </a:t>
            </a: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разработать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принципы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рационального использования природных ресурсов в условиях все возрастающего влияния человека на биосферу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81100-F799-4395-817D-45A04CC9F70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Главные проблемы челове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Взаимодействие человеческого общества и природы стало одной из важнейших проблем современности, поскольку положение, которое складывается в отношениях человека с природой, часто становится критическ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E451B-CF6C-4548-80CD-C065729EE9C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Главные проблемы челове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Ухудшение состояния водного и воздушного бассей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9F8D4-C87E-4597-89AF-CD81C0234AA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14A4-38BE-439B-B245-43278B802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BAC2-F696-4BA3-9229-44F0D3DF5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8AD9-637D-4D56-BF12-4DAA38B34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BA4C-B693-498D-9E0B-F9E5DAE54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A88A-06F5-4E2B-A375-1E9A0E7AA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E8CE-E6E6-429D-BF4B-17DFF0309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08A4-8C36-47EF-ADD2-96E6D713E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A37B-CF41-440C-94F9-2B01DEB44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2094-8873-4F83-B40B-D28F0A008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888B-B217-4964-BF05-D259832E5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3A13-9133-4BD0-AF93-5B8955FAF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AB22-FE00-4E97-91A3-59F1E7972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9E80D-F1C4-48A3-A849-71044DC267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" Target="slide1.xml"/><Relationship Id="rId5" Type="http://schemas.openxmlformats.org/officeDocument/2006/relationships/image" Target="../media/image4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" Target="slide8.xml"/><Relationship Id="rId10" Type="http://schemas.openxmlformats.org/officeDocument/2006/relationships/slide" Target="slide13.xml"/><Relationship Id="rId11" Type="http://schemas.openxmlformats.org/officeDocument/2006/relationships/slide" Target="slide15.xml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3.jpeg"/><Relationship Id="rId4" Type="http://schemas.openxmlformats.org/officeDocument/2006/relationships/slide" Target="slide1.xml"/><Relationship Id="rId5" Type="http://schemas.openxmlformats.org/officeDocument/2006/relationships/image" Target="../media/image4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1547640" y="952560"/>
            <a:ext cx="719964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9999"/>
                </a:solidFill>
                <a:latin typeface="Comic Sans MS"/>
              </a:rPr>
              <a:t>Экология </a:t>
            </a:r>
            <a:r>
              <a:rPr b="0" lang="en-US" sz="6600" spc="-1" strike="noStrike">
                <a:solidFill>
                  <a:srgbClr val="009999"/>
                </a:solidFill>
                <a:latin typeface="Comic Sans MS"/>
              </a:rPr>
              <a:t>P</a:t>
            </a:r>
            <a:r>
              <a:rPr b="0" lang="ru-RU" sz="6600" spc="-1" strike="noStrike">
                <a:solidFill>
                  <a:srgbClr val="009999"/>
                </a:solidFill>
                <a:latin typeface="Comic Sans MS"/>
              </a:rPr>
              <a:t>ядом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1403280" y="5775480"/>
            <a:ext cx="478476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езентация составлена ученицей ГОУ СОШ № 186 Косяченко О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0" y="0"/>
            <a:ext cx="1332000" cy="665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Копия ecology"/>
          <p:cNvPicPr/>
          <p:nvPr/>
        </p:nvPicPr>
        <p:blipFill>
          <a:blip r:embed="rId1"/>
          <a:stretch/>
        </p:blipFill>
        <p:spPr>
          <a:xfrm>
            <a:off x="5580000" y="2908440"/>
            <a:ext cx="2025720" cy="165240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8"/>
          <p:cNvSpPr/>
          <p:nvPr/>
        </p:nvSpPr>
        <p:spPr>
          <a:xfrm rot="1091400">
            <a:off x="5157360" y="2770200"/>
            <a:ext cx="2735280" cy="19573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1" descr="Вперёд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28000" y="6194520"/>
            <a:ext cx="942840" cy="35568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5"/>
          <p:cNvSpPr/>
          <p:nvPr/>
        </p:nvSpPr>
        <p:spPr>
          <a:xfrm>
            <a:off x="1476360" y="2708280"/>
            <a:ext cx="410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счерпывание запасов пресной в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8" descr=""/>
          <p:cNvPicPr/>
          <p:nvPr/>
        </p:nvPicPr>
        <p:blipFill>
          <a:blip r:embed="rId1"/>
          <a:stretch/>
        </p:blipFill>
        <p:spPr>
          <a:xfrm>
            <a:off x="5724360" y="2133720"/>
            <a:ext cx="2857680" cy="28000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0"/>
          <p:cNvSpPr/>
          <p:nvPr/>
        </p:nvSpPr>
        <p:spPr>
          <a:xfrm>
            <a:off x="1619280" y="47628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Comic Sans MS"/>
              </a:rPr>
              <a:t>Главные проблемы челове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1" descr="Назад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2" descr="Домой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3" descr="Вперёд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5"/>
          <p:cNvSpPr/>
          <p:nvPr/>
        </p:nvSpPr>
        <p:spPr>
          <a:xfrm>
            <a:off x="1692360" y="2852640"/>
            <a:ext cx="34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счерпывание запасов полезных ископаем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8" descr=""/>
          <p:cNvPicPr/>
          <p:nvPr/>
        </p:nvPicPr>
        <p:blipFill>
          <a:blip r:embed="rId1"/>
          <a:stretch/>
        </p:blipFill>
        <p:spPr>
          <a:xfrm>
            <a:off x="5364000" y="2565360"/>
            <a:ext cx="3427560" cy="25686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0"/>
          <p:cNvSpPr/>
          <p:nvPr/>
        </p:nvSpPr>
        <p:spPr>
          <a:xfrm>
            <a:off x="1619280" y="54936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Comic Sans MS"/>
              </a:rPr>
              <a:t>Главные проблемы челове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1" descr="Назад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2" descr="Домой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3" descr="Вперёд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9" descr="лес_240"/>
          <p:cNvPicPr/>
          <p:nvPr/>
        </p:nvPicPr>
        <p:blipFill>
          <a:blip r:embed="rId1"/>
          <a:stretch/>
        </p:blipFill>
        <p:spPr>
          <a:xfrm>
            <a:off x="2195640" y="2852640"/>
            <a:ext cx="2808000" cy="194328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10"/>
          <p:cNvSpPr/>
          <p:nvPr/>
        </p:nvSpPr>
        <p:spPr>
          <a:xfrm>
            <a:off x="2843280" y="5084640"/>
            <a:ext cx="518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а и многие другие проблемы, связанные с халатностью человека по отношению к природным ресурс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1" descr=""/>
          <p:cNvPicPr/>
          <p:nvPr/>
        </p:nvPicPr>
        <p:blipFill>
          <a:blip r:embed="rId2"/>
          <a:stretch/>
        </p:blipFill>
        <p:spPr>
          <a:xfrm>
            <a:off x="6084720" y="981000"/>
            <a:ext cx="2762280" cy="207648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12"/>
          <p:cNvSpPr/>
          <p:nvPr/>
        </p:nvSpPr>
        <p:spPr>
          <a:xfrm>
            <a:off x="1619280" y="1557360"/>
            <a:ext cx="36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худшение состояния почвы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3"/>
          <p:cNvSpPr/>
          <p:nvPr/>
        </p:nvSpPr>
        <p:spPr>
          <a:xfrm>
            <a:off x="1619280" y="18900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Comic Sans MS"/>
              </a:rPr>
              <a:t>Главные проблемы челове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4" descr="Назад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5" descr="Домой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6" descr="Вперёд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5"/>
          <p:cNvSpPr/>
          <p:nvPr/>
        </p:nvSpPr>
        <p:spPr>
          <a:xfrm>
            <a:off x="2124000" y="54936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Comic Sans MS"/>
              </a:rPr>
              <a:t>Решение пробл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1692360" y="1989000"/>
            <a:ext cx="698328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ля решения этих глобальных проблем и прежде всего проблемы интенсификации и рационального использования, сохранения и воспроизводства ресурсов биосферы, экология объединяет в научном поиске усилия ботаников, зоологов и микробиологов, придает эволюционному учению, генетике, биохимии и биофизике их истинную универсальн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о и не только их! И мы можем внести свой вклад в отношении спасения Земли от неминуемой гибел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8" descr="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9" descr="Домой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" descr="Вперёд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0" descr="20050514_4"/>
          <p:cNvPicPr/>
          <p:nvPr/>
        </p:nvPicPr>
        <p:blipFill>
          <a:blip r:embed="rId1"/>
          <a:stretch/>
        </p:blipFill>
        <p:spPr>
          <a:xfrm>
            <a:off x="250920" y="333360"/>
            <a:ext cx="4608360" cy="3456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1" descr="01"/>
          <p:cNvPicPr/>
          <p:nvPr/>
        </p:nvPicPr>
        <p:blipFill>
          <a:blip r:embed="rId2"/>
          <a:stretch/>
        </p:blipFill>
        <p:spPr>
          <a:xfrm>
            <a:off x="3708360" y="2421000"/>
            <a:ext cx="5079960" cy="380988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12"/>
          <p:cNvSpPr/>
          <p:nvPr/>
        </p:nvSpPr>
        <p:spPr>
          <a:xfrm>
            <a:off x="179280" y="189000"/>
            <a:ext cx="540000" cy="3960720"/>
          </a:xfrm>
          <a:custGeom>
            <a:avLst/>
            <a:gdLst>
              <a:gd name="textAreaLeft" fmla="*/ 158760 w 540000"/>
              <a:gd name="textAreaRight" fmla="*/ 540360 w 540000"/>
              <a:gd name="textAreaTop" fmla="*/ 164880 h 3960720"/>
              <a:gd name="textAreaBottom" fmla="*/ 3795840 h 39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13"/>
          <p:cNvSpPr/>
          <p:nvPr/>
        </p:nvSpPr>
        <p:spPr>
          <a:xfrm>
            <a:off x="8388360" y="2205000"/>
            <a:ext cx="576360" cy="4176720"/>
          </a:xfrm>
          <a:custGeom>
            <a:avLst/>
            <a:gdLst>
              <a:gd name="textAreaLeft" fmla="*/ 0 w 576360"/>
              <a:gd name="textAreaRight" fmla="*/ 404280 w 576360"/>
              <a:gd name="textAreaTop" fmla="*/ 173880 h 4176720"/>
              <a:gd name="textAreaBottom" fmla="*/ 4002840 h 41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4" descr="Назад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5" descr="Домой"/>
          <p:cNvPicPr/>
          <p:nvPr/>
        </p:nvPicPr>
        <p:blipFill>
          <a:blip r:embed="rId4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6" descr="Вперёд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5"/>
          <p:cNvSpPr/>
          <p:nvPr/>
        </p:nvSpPr>
        <p:spPr>
          <a:xfrm>
            <a:off x="1835280" y="981000"/>
            <a:ext cx="66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Comic Sans MS"/>
              </a:rPr>
              <a:t>Страница гиперссыл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1692360" y="2205000"/>
            <a:ext cx="63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сточники информации во всемирной паутин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8" descr="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9" descr="Домой"/>
          <p:cNvPicPr/>
          <p:nvPr/>
        </p:nvPicPr>
        <p:blipFill>
          <a:blip r:embed="rId2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11"/>
          <p:cNvSpPr/>
          <p:nvPr/>
        </p:nvSpPr>
        <p:spPr>
          <a:xfrm>
            <a:off x="1835280" y="4508640"/>
            <a:ext cx="66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99"/>
                </a:solidFill>
                <a:latin typeface="Comic Sans MS"/>
              </a:rPr>
              <a:t>Спасибо за просмотр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1547640" y="2925720"/>
            <a:ext cx="6480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mic Sans MS"/>
              </a:rPr>
              <a:t>http://ru.wikipedia.org/wiki/Эк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mic Sans MS"/>
              </a:rPr>
              <a:t>http://www.sbio.inf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0"/>
          <p:cNvSpPr/>
          <p:nvPr/>
        </p:nvSpPr>
        <p:spPr>
          <a:xfrm>
            <a:off x="2340000" y="1989000"/>
            <a:ext cx="633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Comic Sans MS"/>
              </a:rPr>
              <a:t>Эколо́гия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(от греч. οικος — дом, жилище, родина и λόγος — учение, наука) — наука, изучающая взаимоотношения живой и неживой приро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2124000" y="18900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Comic Sans MS"/>
              </a:rPr>
              <a:t>Вступ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5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7"/>
          <p:cNvSpPr/>
          <p:nvPr/>
        </p:nvSpPr>
        <p:spPr>
          <a:xfrm>
            <a:off x="1547640" y="3716280"/>
            <a:ext cx="6336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о порой мы с вами и сами не задумываемся о самом факте значения существования этой науки, не замечая или просто забывая продолжаем с каждым днём всё больше и больше загрязнять атмосферу Нашей планеты, губить её флору и фауну, совершать непоправимые ошиб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9"/>
          <p:cNvSpPr/>
          <p:nvPr/>
        </p:nvSpPr>
        <p:spPr>
          <a:xfrm>
            <a:off x="1979640" y="2637000"/>
            <a:ext cx="6335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анная презентация как раз поможет Вам ещё раз вспомнить, что же значит для нас это простая, с виду, наука «Экология» и что живой и неживой миры взаимосвязаны друг с другом намного больше, чем мы предполага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0" descr="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1" descr="Домой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2" descr="Вперёд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23"/>
          <p:cNvSpPr/>
          <p:nvPr/>
        </p:nvSpPr>
        <p:spPr>
          <a:xfrm>
            <a:off x="7164360" y="5516640"/>
            <a:ext cx="17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Дальше </a:t>
            </a:r>
            <a:r>
              <a:rPr b="0" lang="ru-RU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2124000" y="47628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Comic Sans MS"/>
              </a:rPr>
              <a:t>Содерж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Домой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Вперёд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9"/>
          <p:cNvSpPr/>
          <p:nvPr/>
        </p:nvSpPr>
        <p:spPr>
          <a:xfrm>
            <a:off x="1619280" y="1484280"/>
            <a:ext cx="288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,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5" action="ppaction://hlinksldjump"/>
              </a:rPr>
              <a:t>Опред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1763640" y="2062080"/>
            <a:ext cx="640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,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6" action="ppaction://hlinksldjump"/>
              </a:rPr>
              <a:t>Связи экологии с другими нау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1619280" y="2637000"/>
            <a:ext cx="655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3,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7" action="ppaction://hlinksldjump"/>
              </a:rPr>
              <a:t>Экологические факт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2"/>
          <p:cNvSpPr/>
          <p:nvPr/>
        </p:nvSpPr>
        <p:spPr>
          <a:xfrm>
            <a:off x="1763640" y="3213000"/>
            <a:ext cx="619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4,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8" action="ppaction://hlinksldjump"/>
              </a:rPr>
              <a:t>Главная задача эк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3"/>
          <p:cNvSpPr/>
          <p:nvPr/>
        </p:nvSpPr>
        <p:spPr>
          <a:xfrm>
            <a:off x="1619280" y="3789360"/>
            <a:ext cx="604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5,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9" action="ppaction://hlinksldjump"/>
              </a:rPr>
              <a:t>Главные проблемы челове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4"/>
          <p:cNvSpPr/>
          <p:nvPr/>
        </p:nvSpPr>
        <p:spPr>
          <a:xfrm>
            <a:off x="1763640" y="4365720"/>
            <a:ext cx="6624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6,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10" action="ppaction://hlinksldjump"/>
              </a:rPr>
              <a:t>Решение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5"/>
          <p:cNvSpPr/>
          <p:nvPr/>
        </p:nvSpPr>
        <p:spPr>
          <a:xfrm>
            <a:off x="1619280" y="4941720"/>
            <a:ext cx="655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7,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11" action="ppaction://hlinksldjump"/>
              </a:rPr>
              <a:t>Страница гиперссыл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7"/>
          <p:cNvSpPr/>
          <p:nvPr/>
        </p:nvSpPr>
        <p:spPr>
          <a:xfrm>
            <a:off x="2124000" y="18900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Comic Sans MS"/>
              </a:rPr>
              <a:t>Опреде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1692360" y="1052640"/>
            <a:ext cx="705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овременное значение слова экология имеет более широкое значение, чем в первые десятилетия развития этой науки. Предлагаю рассмотреть и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1476360" y="2421000"/>
            <a:ext cx="37450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99"/>
                </a:solidFill>
                <a:latin typeface="Comic Sans MS"/>
              </a:rPr>
              <a:t>1, Экология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— познание экономики природы, одновременное исследование всех взаимоотношений живого с органическими и неорганическими компонентами сре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5435640" y="2708280"/>
            <a:ext cx="3527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99"/>
                </a:solidFill>
                <a:latin typeface="Comic Sans MS"/>
              </a:rPr>
              <a:t>2,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9999"/>
                </a:solidFill>
                <a:latin typeface="Comic Sans MS"/>
              </a:rPr>
              <a:t>Экология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— это наука, изучающая все сложные взаимосвязи в природе, рассматриваемые Дарвином как условия борьбы за существова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2771640" y="4581360"/>
            <a:ext cx="3888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99"/>
                </a:solidFill>
                <a:latin typeface="Comic Sans MS"/>
              </a:rPr>
              <a:t>3, Экология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- биологическая наука, которая исследует структуру и функционирование систем надорганизменного уровня в пространстве и времени в естественных и измененных человеком условия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3"/>
          <p:cNvSpPr/>
          <p:nvPr/>
        </p:nvSpPr>
        <p:spPr>
          <a:xfrm>
            <a:off x="5364000" y="2637000"/>
            <a:ext cx="3384720" cy="17287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4"/>
          <p:cNvSpPr/>
          <p:nvPr/>
        </p:nvSpPr>
        <p:spPr>
          <a:xfrm>
            <a:off x="1403280" y="2276640"/>
            <a:ext cx="3816360" cy="187164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5"/>
          <p:cNvSpPr/>
          <p:nvPr/>
        </p:nvSpPr>
        <p:spPr>
          <a:xfrm>
            <a:off x="2700360" y="4508640"/>
            <a:ext cx="3743280" cy="18730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6" descr="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7" descr="Домой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8" descr="Вперёд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5"/>
          <p:cNvSpPr/>
          <p:nvPr/>
        </p:nvSpPr>
        <p:spPr>
          <a:xfrm>
            <a:off x="1403280" y="333360"/>
            <a:ext cx="77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Comic Sans MS"/>
              </a:rPr>
              <a:t>Связи экологии с другими нау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1763640" y="3860640"/>
            <a:ext cx="684072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Экология обычно рассматривается как подотрасль биологии, общей науки о живых организм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о экология также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вязана со многими другими науками именно потому, что она изучает организацию живых организмов на очень высоком уровне, исследует связи между организмами и их средой обит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9"/>
          <p:cNvSpPr/>
          <p:nvPr/>
        </p:nvSpPr>
        <p:spPr>
          <a:xfrm>
            <a:off x="2625840" y="2924280"/>
            <a:ext cx="1511280" cy="57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2770200" y="2997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би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5"/>
          <p:cNvSpPr/>
          <p:nvPr/>
        </p:nvSpPr>
        <p:spPr>
          <a:xfrm>
            <a:off x="4786200" y="2925720"/>
            <a:ext cx="129564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6"/>
          <p:cNvSpPr/>
          <p:nvPr/>
        </p:nvSpPr>
        <p:spPr>
          <a:xfrm>
            <a:off x="6657840" y="2925720"/>
            <a:ext cx="129564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1"/>
          <p:cNvSpPr/>
          <p:nvPr/>
        </p:nvSpPr>
        <p:spPr>
          <a:xfrm>
            <a:off x="4930920" y="299736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хим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2"/>
          <p:cNvSpPr/>
          <p:nvPr/>
        </p:nvSpPr>
        <p:spPr>
          <a:xfrm>
            <a:off x="6802560" y="299736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физ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3"/>
          <p:cNvSpPr/>
          <p:nvPr/>
        </p:nvSpPr>
        <p:spPr>
          <a:xfrm>
            <a:off x="4788000" y="1341360"/>
            <a:ext cx="143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omic Sans MS"/>
              </a:rPr>
              <a:t>Эк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4"/>
          <p:cNvSpPr/>
          <p:nvPr/>
        </p:nvSpPr>
        <p:spPr>
          <a:xfrm flipH="1">
            <a:off x="3708360" y="1701720"/>
            <a:ext cx="1224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5"/>
          <p:cNvSpPr/>
          <p:nvPr/>
        </p:nvSpPr>
        <p:spPr>
          <a:xfrm>
            <a:off x="5940360" y="1701720"/>
            <a:ext cx="93672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6"/>
          <p:cNvSpPr/>
          <p:nvPr/>
        </p:nvSpPr>
        <p:spPr>
          <a:xfrm flipH="1">
            <a:off x="3851280" y="1701720"/>
            <a:ext cx="144144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7"/>
          <p:cNvSpPr/>
          <p:nvPr/>
        </p:nvSpPr>
        <p:spPr>
          <a:xfrm>
            <a:off x="5435640" y="170172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8"/>
          <p:cNvSpPr/>
          <p:nvPr/>
        </p:nvSpPr>
        <p:spPr>
          <a:xfrm>
            <a:off x="5580000" y="1701720"/>
            <a:ext cx="144000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29"/>
          <p:cNvSpPr/>
          <p:nvPr/>
        </p:nvSpPr>
        <p:spPr>
          <a:xfrm>
            <a:off x="6946920" y="1846440"/>
            <a:ext cx="1728720" cy="57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0"/>
          <p:cNvSpPr/>
          <p:nvPr/>
        </p:nvSpPr>
        <p:spPr>
          <a:xfrm>
            <a:off x="7020000" y="191772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атема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31"/>
          <p:cNvSpPr/>
          <p:nvPr/>
        </p:nvSpPr>
        <p:spPr>
          <a:xfrm>
            <a:off x="1763640" y="191772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2"/>
          <p:cNvSpPr/>
          <p:nvPr/>
        </p:nvSpPr>
        <p:spPr>
          <a:xfrm>
            <a:off x="1908000" y="198900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географ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3" descr="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4" descr="Домой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5" descr="Вперёд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5"/>
          <p:cNvSpPr/>
          <p:nvPr/>
        </p:nvSpPr>
        <p:spPr>
          <a:xfrm>
            <a:off x="2124000" y="54936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Comic Sans MS"/>
              </a:rPr>
              <a:t>Экологические факт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1692360" y="1413000"/>
            <a:ext cx="705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Comic Sans MS"/>
              </a:rPr>
              <a:t>Экологические факторы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– это элементы окружающей среды, которые вызывают у живых организмов и их сообществ приспособительные реакции (адаптаци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1835280" y="3141720"/>
            <a:ext cx="540072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1, температур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2, влажность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3, ветер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4, наличие пищ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5, хищник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6, паразит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7, конкуренты и т. 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0" descr="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Домой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2" descr="Вперёд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5"/>
          <p:cNvSpPr/>
          <p:nvPr/>
        </p:nvSpPr>
        <p:spPr>
          <a:xfrm>
            <a:off x="2124000" y="47628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Comic Sans MS"/>
              </a:rPr>
              <a:t>Главная задача эк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1692360" y="2565360"/>
            <a:ext cx="6335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Главная же теоретическая и практическая задача экологии — </a:t>
            </a:r>
            <a:r>
              <a:rPr b="0" lang="ru-RU" sz="2000" spc="-1" strike="noStrike">
                <a:solidFill>
                  <a:srgbClr val="009999"/>
                </a:solidFill>
                <a:latin typeface="Comic Sans MS"/>
              </a:rPr>
              <a:t>раскрыть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общие </a:t>
            </a:r>
            <a:r>
              <a:rPr b="0" lang="ru-RU" sz="2000" spc="-1" strike="noStrike">
                <a:solidFill>
                  <a:srgbClr val="009999"/>
                </a:solidFill>
                <a:latin typeface="Comic Sans MS"/>
              </a:rPr>
              <a:t>закономерности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организации жизни и на этой основе </a:t>
            </a:r>
            <a:r>
              <a:rPr b="0" lang="ru-RU" sz="2000" spc="-1" strike="noStrike">
                <a:solidFill>
                  <a:srgbClr val="009999"/>
                </a:solidFill>
                <a:latin typeface="Comic Sans MS"/>
              </a:rPr>
              <a:t>разработать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9999"/>
                </a:solidFill>
                <a:latin typeface="Comic Sans MS"/>
              </a:rPr>
              <a:t>принципы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рационального использования природных ресурсов в условиях все возрастающего влияния человека на биосферу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9" descr="Копия (2) Экология 1"/>
          <p:cNvPicPr/>
          <p:nvPr/>
        </p:nvPicPr>
        <p:blipFill>
          <a:blip r:embed="rId1"/>
          <a:stretch/>
        </p:blipFill>
        <p:spPr>
          <a:xfrm>
            <a:off x="7596360" y="620640"/>
            <a:ext cx="1238040" cy="1238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Назад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Домой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2" descr="Вперёд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5"/>
          <p:cNvSpPr/>
          <p:nvPr/>
        </p:nvSpPr>
        <p:spPr>
          <a:xfrm>
            <a:off x="1619280" y="18900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Comic Sans MS"/>
              </a:rPr>
              <a:t>Главные проблемы челове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1763640" y="1341360"/>
            <a:ext cx="6732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заимодействие человеческого общества и природы стало одной из важнейших проблем современности, поскольку положение, которое складывается в отношениях человека с природой, часто становится критическ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02" descr="carbon01"/>
          <p:cNvPicPr/>
          <p:nvPr/>
        </p:nvPicPr>
        <p:blipFill>
          <a:blip r:embed="rId1"/>
          <a:stretch/>
        </p:blipFill>
        <p:spPr>
          <a:xfrm>
            <a:off x="3924360" y="3213000"/>
            <a:ext cx="2340000" cy="295272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103"/>
          <p:cNvSpPr/>
          <p:nvPr/>
        </p:nvSpPr>
        <p:spPr>
          <a:xfrm>
            <a:off x="3635280" y="5877000"/>
            <a:ext cx="2665440" cy="64764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04" descr="Назад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5" descr="Домой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6" descr="Вперёд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5"/>
          <p:cNvSpPr/>
          <p:nvPr/>
        </p:nvSpPr>
        <p:spPr>
          <a:xfrm>
            <a:off x="1258920" y="2781360"/>
            <a:ext cx="46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худшение состояния водного и воздушного бассей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4" descr=""/>
          <p:cNvPicPr/>
          <p:nvPr/>
        </p:nvPicPr>
        <p:blipFill>
          <a:blip r:embed="rId1"/>
          <a:stretch/>
        </p:blipFill>
        <p:spPr>
          <a:xfrm>
            <a:off x="6372360" y="3573360"/>
            <a:ext cx="2319120" cy="22179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6" descr="e560688110e3"/>
          <p:cNvPicPr/>
          <p:nvPr/>
        </p:nvPicPr>
        <p:blipFill>
          <a:blip r:embed="rId2"/>
          <a:stretch/>
        </p:blipFill>
        <p:spPr>
          <a:xfrm>
            <a:off x="6732720" y="1700280"/>
            <a:ext cx="1895400" cy="142236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20"/>
          <p:cNvSpPr/>
          <p:nvPr/>
        </p:nvSpPr>
        <p:spPr>
          <a:xfrm>
            <a:off x="1619280" y="54936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Comic Sans MS"/>
              </a:rPr>
              <a:t>Главные проблемы челове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1" descr="Назад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2" descr="Домой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3" descr="Вперёд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5T20:45:26Z</dcterms:created>
  <dc:creator>CoYoko</dc:creator>
  <dc:description/>
  <dc:language>en-US</dc:language>
  <cp:lastModifiedBy>LEGION</cp:lastModifiedBy>
  <dcterms:modified xsi:type="dcterms:W3CDTF">2015-05-06T08:09:41Z</dcterms:modified>
  <cp:revision>9</cp:revision>
  <dc:subject/>
  <dc:title>Экология Рядом!</dc:title>
</cp:coreProperties>
</file>